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CCA0-72EE-4F63-AFD0-B022F742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44F-3F1C-4321-8C54-04E99892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779-A56D-4A9C-A545-895FC232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A14-5424-49AD-BF6D-819F4C6C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51A-138E-48FE-A26D-2F0062E8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16D-C3D3-4A5A-8C1B-19599948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B45-2D95-4701-AE89-7F1722A3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EA4-E6A5-4A8B-9D01-A54B673F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B7F-E555-4FC4-8E6F-8A63E789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D25-F526-4B89-933D-DB05FEB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F59-76F5-4C05-8745-405442FB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A7E-BFC1-44E4-9427-20FEC7E3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12369-5D98-43E1-8B6D-EF56C936B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F2EF3-6C33-4F59-9112-2F8E64CA1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307800"/>
            <a:ext cx="8763120" cy="6170760"/>
          </a:xfrm>
          <a:prstGeom prst="rect">
            <a:avLst/>
          </a:prstGeom>
          <a:ln w="0">
            <a:noFill/>
          </a:ln>
        </p:spPr>
      </p:pic>
      <p:sp>
        <p:nvSpPr>
          <p:cNvPr id="42" name="Action Button: Forward or Next 6">
            <a:hlinkClick r:id="" action="ppaction://hlinkshowjump?jump=nextslide"/>
          </p:cNvPr>
          <p:cNvSpPr/>
          <p:nvPr/>
        </p:nvSpPr>
        <p:spPr>
          <a:xfrm>
            <a:off x="4038480" y="627228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3794"/>
                </a:moveTo>
                <a:lnTo>
                  <a:pt x="26238" y="10800"/>
                </a:lnTo>
                <a:lnTo>
                  <a:pt x="12225" y="17806"/>
                </a:lnTo>
                <a:close/>
              </a:path>
            </a:pathLst>
          </a:custGeom>
          <a:solidFill>
            <a:srgbClr val="a9d2a8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73" name="Action Button: Forward or Next 5">
            <a:hlinkClick r:id="" action="ppaction://hlinkshowjump?jump=nextslide"/>
          </p:cNvPr>
          <p:cNvSpPr/>
          <p:nvPr/>
        </p:nvSpPr>
        <p:spPr>
          <a:xfrm>
            <a:off x="838080" y="457200"/>
            <a:ext cx="762120" cy="12193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1219320"/>
              <a:gd name="textAreaBottom" fmla="*/ 1170000 h 121932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  <a:path fill="darken" w="21600" h="34552">
                <a:moveTo>
                  <a:pt x="3794" y="10269"/>
                </a:moveTo>
                <a:lnTo>
                  <a:pt x="17806" y="17276"/>
                </a:lnTo>
                <a:lnTo>
                  <a:pt x="3794" y="24282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215520" y="3962520"/>
            <a:ext cx="307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vas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7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0" name="Action Button: Forward or Next 5">
            <a:hlinkClick r:id="" action="ppaction://hlinkshowjump?jump=nextslide"/>
          </p:cNvPr>
          <p:cNvSpPr/>
          <p:nvPr/>
        </p:nvSpPr>
        <p:spPr>
          <a:xfrm>
            <a:off x="6553080" y="18288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3794"/>
                </a:moveTo>
                <a:lnTo>
                  <a:pt x="34601" y="10800"/>
                </a:lnTo>
                <a:lnTo>
                  <a:pt x="20588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1600200" y="3962520"/>
            <a:ext cx="59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 hond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84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87" name="Action Button: Forward or Next 5">
            <a:hlinkClick r:id="" action="ppaction://hlinkshowjump?jump=nextslide"/>
          </p:cNvPr>
          <p:cNvSpPr/>
          <p:nvPr/>
        </p:nvSpPr>
        <p:spPr>
          <a:xfrm>
            <a:off x="6781680" y="609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685600" y="3962520"/>
            <a:ext cx="373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1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94" name="Action Button: Forward or Next 5">
            <a:hlinkClick r:id="" action="ppaction://hlinkshowjump?jump=nextslide"/>
          </p:cNvPr>
          <p:cNvSpPr/>
          <p:nvPr/>
        </p:nvSpPr>
        <p:spPr>
          <a:xfrm>
            <a:off x="4267080" y="609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138120" y="3962520"/>
            <a:ext cx="28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taz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98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101" name="Action Button: Forward or Next 5">
            <a:hlinkClick r:id="" action="ppaction://hlinkshowjump?jump=nextslide"/>
          </p:cNvPr>
          <p:cNvSpPr/>
          <p:nvPr/>
        </p:nvSpPr>
        <p:spPr>
          <a:xfrm>
            <a:off x="1752480" y="457200"/>
            <a:ext cx="2286000" cy="1066680"/>
          </a:xfrm>
          <a:custGeom>
            <a:avLst/>
            <a:gdLst>
              <a:gd name="textAreaLeft" fmla="*/ 69120 w 2286000"/>
              <a:gd name="textAreaRight" fmla="*/ 2216880 w 2286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6283" h="21600">
                <a:moveTo>
                  <a:pt x="0" y="0"/>
                </a:moveTo>
                <a:lnTo>
                  <a:pt x="46283" y="0"/>
                </a:lnTo>
                <a:lnTo>
                  <a:pt x="46283" y="21600"/>
                </a:lnTo>
                <a:lnTo>
                  <a:pt x="0" y="21600"/>
                </a:lnTo>
                <a:close/>
              </a:path>
              <a:path fill="lightenLess" w="46283" h="21600">
                <a:moveTo>
                  <a:pt x="0" y="0"/>
                </a:moveTo>
                <a:lnTo>
                  <a:pt x="46283" y="0"/>
                </a:lnTo>
                <a:lnTo>
                  <a:pt x="44883" y="1400"/>
                </a:lnTo>
                <a:lnTo>
                  <a:pt x="1400" y="1400"/>
                </a:lnTo>
                <a:close/>
              </a:path>
              <a:path fill="darken" w="46283" h="21600">
                <a:moveTo>
                  <a:pt x="46283" y="0"/>
                </a:moveTo>
                <a:lnTo>
                  <a:pt x="46283" y="21600"/>
                </a:lnTo>
                <a:lnTo>
                  <a:pt x="44883" y="20200"/>
                </a:lnTo>
                <a:lnTo>
                  <a:pt x="44883" y="1400"/>
                </a:lnTo>
                <a:close/>
              </a:path>
              <a:path fill="darkenLess" w="46283" h="21600">
                <a:moveTo>
                  <a:pt x="4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83" y="20200"/>
                </a:lnTo>
                <a:close/>
              </a:path>
              <a:path fill="lighten" w="4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83" h="21600">
                <a:moveTo>
                  <a:pt x="16135" y="3794"/>
                </a:moveTo>
                <a:lnTo>
                  <a:pt x="30148" y="10800"/>
                </a:lnTo>
                <a:lnTo>
                  <a:pt x="16135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2081520" y="3962520"/>
            <a:ext cx="475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servillet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15800" y="173160"/>
            <a:ext cx="8159760" cy="63039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4" descr=""/>
          <p:cNvPicPr/>
          <p:nvPr/>
        </p:nvPicPr>
        <p:blipFill>
          <a:blip r:embed="rId2"/>
          <a:stretch/>
        </p:blipFill>
        <p:spPr>
          <a:xfrm>
            <a:off x="139680" y="-133200"/>
            <a:ext cx="9193320" cy="21510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4263480" y="51055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ction Button: Custom 6">
            <a:hlinkClick r:id="" action="ppaction://hlinkshowjump?jump=endshow"/>
          </p:cNvPr>
          <p:cNvSpPr/>
          <p:nvPr/>
        </p:nvSpPr>
        <p:spPr>
          <a:xfrm>
            <a:off x="4267080" y="5105520"/>
            <a:ext cx="1043280" cy="520560"/>
          </a:xfrm>
          <a:custGeom>
            <a:avLst/>
            <a:gdLst>
              <a:gd name="textAreaLeft" fmla="*/ 33480 w 1043280"/>
              <a:gd name="textAreaRight" fmla="*/ 1009800 w 1043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43275" h="21600">
                <a:moveTo>
                  <a:pt x="0" y="0"/>
                </a:moveTo>
                <a:lnTo>
                  <a:pt x="43275" y="0"/>
                </a:lnTo>
                <a:lnTo>
                  <a:pt x="43275" y="21600"/>
                </a:lnTo>
                <a:lnTo>
                  <a:pt x="0" y="21600"/>
                </a:lnTo>
                <a:close/>
              </a:path>
              <a:path fill="lightenLess" w="43275" h="21600">
                <a:moveTo>
                  <a:pt x="0" y="0"/>
                </a:moveTo>
                <a:lnTo>
                  <a:pt x="43275" y="0"/>
                </a:lnTo>
                <a:lnTo>
                  <a:pt x="41875" y="1400"/>
                </a:lnTo>
                <a:lnTo>
                  <a:pt x="1400" y="1400"/>
                </a:lnTo>
                <a:close/>
              </a:path>
              <a:path fill="darken" w="43275" h="21600">
                <a:moveTo>
                  <a:pt x="43275" y="0"/>
                </a:moveTo>
                <a:lnTo>
                  <a:pt x="43275" y="21600"/>
                </a:lnTo>
                <a:lnTo>
                  <a:pt x="41875" y="20200"/>
                </a:lnTo>
                <a:lnTo>
                  <a:pt x="41875" y="1400"/>
                </a:lnTo>
                <a:close/>
              </a:path>
              <a:path fill="darkenLess" w="43275" h="21600">
                <a:moveTo>
                  <a:pt x="43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5" y="20200"/>
                </a:lnTo>
                <a:close/>
              </a:path>
              <a:path fill="lighten" w="43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>
                <a:alpha val="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215880" y="3962520"/>
            <a:ext cx="313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plat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ction Button: Forward or Next 8">
            <a:hlinkClick r:id="" action="ppaction://hlinkshowjump?jump=nextslide"/>
          </p:cNvPr>
          <p:cNvSpPr/>
          <p:nvPr/>
        </p:nvSpPr>
        <p:spPr>
          <a:xfrm>
            <a:off x="1523880" y="1752480"/>
            <a:ext cx="4191120" cy="1043280"/>
          </a:xfrm>
          <a:custGeom>
            <a:avLst/>
            <a:gdLst>
              <a:gd name="textAreaLeft" fmla="*/ 67320 w 4191120"/>
              <a:gd name="textAreaRight" fmla="*/ 4123800 w 41911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86750" h="21600">
                <a:moveTo>
                  <a:pt x="0" y="0"/>
                </a:moveTo>
                <a:lnTo>
                  <a:pt x="86750" y="0"/>
                </a:lnTo>
                <a:lnTo>
                  <a:pt x="86750" y="21600"/>
                </a:lnTo>
                <a:lnTo>
                  <a:pt x="0" y="21600"/>
                </a:lnTo>
                <a:close/>
              </a:path>
              <a:path fill="lightenLess" w="86750" h="21600">
                <a:moveTo>
                  <a:pt x="0" y="0"/>
                </a:moveTo>
                <a:lnTo>
                  <a:pt x="86750" y="0"/>
                </a:lnTo>
                <a:lnTo>
                  <a:pt x="85350" y="1400"/>
                </a:lnTo>
                <a:lnTo>
                  <a:pt x="1400" y="1400"/>
                </a:lnTo>
                <a:close/>
              </a:path>
              <a:path fill="darken" w="86750" h="21600">
                <a:moveTo>
                  <a:pt x="86750" y="0"/>
                </a:moveTo>
                <a:lnTo>
                  <a:pt x="86750" y="21600"/>
                </a:lnTo>
                <a:lnTo>
                  <a:pt x="85350" y="20200"/>
                </a:lnTo>
                <a:lnTo>
                  <a:pt x="85350" y="1400"/>
                </a:lnTo>
                <a:close/>
              </a:path>
              <a:path fill="darkenLess" w="86750" h="21600">
                <a:moveTo>
                  <a:pt x="867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350" y="20200"/>
                </a:lnTo>
                <a:close/>
              </a:path>
              <a:path fill="lighten" w="867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750" h="21600">
                <a:moveTo>
                  <a:pt x="36369" y="3794"/>
                </a:moveTo>
                <a:lnTo>
                  <a:pt x="50382" y="10800"/>
                </a:lnTo>
                <a:lnTo>
                  <a:pt x="36369" y="17806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33200" y="0"/>
            <a:ext cx="88743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ction Button: Forward or Next 5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52" name="Action Button: Forward or Next 5">
            <a:hlinkClick r:id="" action="ppaction://hlinkshowjump?jump=nextslide"/>
          </p:cNvPr>
          <p:cNvSpPr/>
          <p:nvPr/>
        </p:nvSpPr>
        <p:spPr>
          <a:xfrm>
            <a:off x="304920" y="457200"/>
            <a:ext cx="380880" cy="25909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2590920"/>
              <a:gd name="textAreaBottom" fmla="*/ 2566440 h 2590920"/>
            </a:gdLst>
            <a:ahLst/>
            <a:rect l="textAreaLeft" t="textAreaTop" r="textAreaRight" b="textAreaBottom"/>
            <a:pathLst>
              <a:path w="21600" h="146815">
                <a:moveTo>
                  <a:pt x="0" y="0"/>
                </a:moveTo>
                <a:lnTo>
                  <a:pt x="21600" y="0"/>
                </a:lnTo>
                <a:lnTo>
                  <a:pt x="21600" y="146815"/>
                </a:lnTo>
                <a:lnTo>
                  <a:pt x="0" y="146815"/>
                </a:lnTo>
                <a:close/>
              </a:path>
              <a:path fill="lightenLess" w="21600" h="1468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46815">
                <a:moveTo>
                  <a:pt x="21600" y="0"/>
                </a:moveTo>
                <a:lnTo>
                  <a:pt x="21600" y="146815"/>
                </a:lnTo>
                <a:lnTo>
                  <a:pt x="20200" y="145415"/>
                </a:lnTo>
                <a:lnTo>
                  <a:pt x="20200" y="1400"/>
                </a:lnTo>
                <a:close/>
              </a:path>
              <a:path fill="darkenLess" w="21600" h="146815">
                <a:moveTo>
                  <a:pt x="21600" y="146815"/>
                </a:moveTo>
                <a:lnTo>
                  <a:pt x="0" y="146815"/>
                </a:lnTo>
                <a:lnTo>
                  <a:pt x="1400" y="145415"/>
                </a:lnTo>
                <a:lnTo>
                  <a:pt x="20200" y="145415"/>
                </a:lnTo>
                <a:close/>
              </a:path>
              <a:path fill="lighten" w="21600" h="146815">
                <a:moveTo>
                  <a:pt x="0" y="146815"/>
                </a:moveTo>
                <a:lnTo>
                  <a:pt x="0" y="0"/>
                </a:lnTo>
                <a:lnTo>
                  <a:pt x="1400" y="1400"/>
                </a:lnTo>
                <a:lnTo>
                  <a:pt x="1400" y="145415"/>
                </a:lnTo>
                <a:close/>
              </a:path>
              <a:path fill="darken" w="21600" h="146815">
                <a:moveTo>
                  <a:pt x="3794" y="66401"/>
                </a:moveTo>
                <a:lnTo>
                  <a:pt x="17806" y="73407"/>
                </a:lnTo>
                <a:lnTo>
                  <a:pt x="3794" y="80414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62760" y="3962520"/>
            <a:ext cx="425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tened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320" y="-3618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56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6561000" y="63673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98280" y="558720"/>
            <a:ext cx="7902720" cy="2595600"/>
          </a:xfrm>
          <a:prstGeom prst="rect">
            <a:avLst/>
          </a:prstGeom>
          <a:ln w="0">
            <a:noFill/>
          </a:ln>
        </p:spPr>
      </p:pic>
      <p:sp>
        <p:nvSpPr>
          <p:cNvPr id="59" name="Action Button: Forward or Next 7">
            <a:hlinkClick r:id="" action="ppaction://hlinkshowjump?jump=nextslide"/>
          </p:cNvPr>
          <p:cNvSpPr/>
          <p:nvPr/>
        </p:nvSpPr>
        <p:spPr>
          <a:xfrm>
            <a:off x="8458200" y="380880"/>
            <a:ext cx="304920" cy="25146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2514600"/>
              <a:gd name="textAreaBottom" fmla="*/ 2495160 h 2514600"/>
            </a:gdLst>
            <a:ahLst/>
            <a:rect l="textAreaLeft" t="textAreaTop" r="textAreaRight" b="textAreaBottom"/>
            <a:pathLst>
              <a:path w="21600" h="177945">
                <a:moveTo>
                  <a:pt x="0" y="0"/>
                </a:moveTo>
                <a:lnTo>
                  <a:pt x="21600" y="0"/>
                </a:lnTo>
                <a:lnTo>
                  <a:pt x="21600" y="177945"/>
                </a:lnTo>
                <a:lnTo>
                  <a:pt x="0" y="177945"/>
                </a:lnTo>
                <a:close/>
              </a:path>
              <a:path fill="lightenLess" w="21600" h="1779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77945">
                <a:moveTo>
                  <a:pt x="21600" y="0"/>
                </a:moveTo>
                <a:lnTo>
                  <a:pt x="21600" y="177945"/>
                </a:lnTo>
                <a:lnTo>
                  <a:pt x="20200" y="176545"/>
                </a:lnTo>
                <a:lnTo>
                  <a:pt x="20200" y="1400"/>
                </a:lnTo>
                <a:close/>
              </a:path>
              <a:path fill="darkenLess" w="21600" h="177945">
                <a:moveTo>
                  <a:pt x="21600" y="177945"/>
                </a:moveTo>
                <a:lnTo>
                  <a:pt x="0" y="177945"/>
                </a:lnTo>
                <a:lnTo>
                  <a:pt x="1400" y="176545"/>
                </a:lnTo>
                <a:lnTo>
                  <a:pt x="20200" y="176545"/>
                </a:lnTo>
                <a:close/>
              </a:path>
              <a:path fill="lighten" w="21600" h="177945">
                <a:moveTo>
                  <a:pt x="0" y="177945"/>
                </a:moveTo>
                <a:lnTo>
                  <a:pt x="0" y="0"/>
                </a:lnTo>
                <a:lnTo>
                  <a:pt x="1400" y="1400"/>
                </a:lnTo>
                <a:lnTo>
                  <a:pt x="1400" y="176545"/>
                </a:lnTo>
                <a:close/>
              </a:path>
              <a:path fill="darken" w="21600" h="177945">
                <a:moveTo>
                  <a:pt x="3794" y="81966"/>
                </a:moveTo>
                <a:lnTo>
                  <a:pt x="17806" y="88973"/>
                </a:lnTo>
                <a:lnTo>
                  <a:pt x="3794" y="9597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2459160" y="3962520"/>
            <a:ext cx="4196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l cuchill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63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98280" y="228600"/>
            <a:ext cx="8909280" cy="2925720"/>
          </a:xfrm>
          <a:prstGeom prst="rect">
            <a:avLst/>
          </a:prstGeom>
          <a:ln w="0">
            <a:noFill/>
          </a:ln>
        </p:spPr>
      </p:pic>
      <p:sp>
        <p:nvSpPr>
          <p:cNvPr id="66" name="Action Button: Forward or Next 5">
            <a:hlinkClick r:id="" action="ppaction://hlinkshowjump?jump=nextslide"/>
          </p:cNvPr>
          <p:cNvSpPr/>
          <p:nvPr/>
        </p:nvSpPr>
        <p:spPr>
          <a:xfrm>
            <a:off x="5791320" y="457200"/>
            <a:ext cx="609480" cy="236232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2362320"/>
              <a:gd name="textAreaBottom" fmla="*/ 2323080 h 2362320"/>
            </a:gdLst>
            <a:ahLst/>
            <a:rect l="textAreaLeft" t="textAreaTop" r="textAreaRight" b="textAreaBottom"/>
            <a:pathLst>
              <a:path w="21600" h="83684">
                <a:moveTo>
                  <a:pt x="0" y="0"/>
                </a:moveTo>
                <a:lnTo>
                  <a:pt x="21600" y="0"/>
                </a:lnTo>
                <a:lnTo>
                  <a:pt x="21600" y="83684"/>
                </a:lnTo>
                <a:lnTo>
                  <a:pt x="0" y="83684"/>
                </a:lnTo>
                <a:close/>
              </a:path>
              <a:path fill="lightenLess" w="21600" h="836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83684">
                <a:moveTo>
                  <a:pt x="21600" y="0"/>
                </a:moveTo>
                <a:lnTo>
                  <a:pt x="21600" y="83684"/>
                </a:lnTo>
                <a:lnTo>
                  <a:pt x="20200" y="82284"/>
                </a:lnTo>
                <a:lnTo>
                  <a:pt x="20200" y="1400"/>
                </a:lnTo>
                <a:close/>
              </a:path>
              <a:path fill="darkenLess" w="21600" h="83684">
                <a:moveTo>
                  <a:pt x="21600" y="83684"/>
                </a:moveTo>
                <a:lnTo>
                  <a:pt x="0" y="83684"/>
                </a:lnTo>
                <a:lnTo>
                  <a:pt x="1400" y="82284"/>
                </a:lnTo>
                <a:lnTo>
                  <a:pt x="20200" y="82284"/>
                </a:lnTo>
                <a:close/>
              </a:path>
              <a:path fill="lighten" w="21600" h="83684">
                <a:moveTo>
                  <a:pt x="0" y="83684"/>
                </a:moveTo>
                <a:lnTo>
                  <a:pt x="0" y="0"/>
                </a:lnTo>
                <a:lnTo>
                  <a:pt x="1400" y="1400"/>
                </a:lnTo>
                <a:lnTo>
                  <a:pt x="1400" y="82284"/>
                </a:lnTo>
                <a:close/>
              </a:path>
              <a:path fill="darken" w="21600" h="83684">
                <a:moveTo>
                  <a:pt x="3794" y="34836"/>
                </a:moveTo>
                <a:lnTo>
                  <a:pt x="17806" y="41842"/>
                </a:lnTo>
                <a:lnTo>
                  <a:pt x="3794" y="48849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307240" y="3962520"/>
            <a:ext cx="4402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 clic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cucha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7369200" y="6477120"/>
            <a:ext cx="163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9 abcteach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7320" y="-457200"/>
            <a:ext cx="8850240" cy="6838920"/>
          </a:xfrm>
          <a:prstGeom prst="rect">
            <a:avLst/>
          </a:prstGeom>
          <a:ln w="0">
            <a:noFill/>
          </a:ln>
        </p:spPr>
      </p:pic>
      <p:sp>
        <p:nvSpPr>
          <p:cNvPr id="70" name="Action Button: Forward or Next 4">
            <a:hlinkClick r:id="" action="ppaction://hlinkshowjump?jump=nextslide"/>
          </p:cNvPr>
          <p:cNvSpPr/>
          <p:nvPr/>
        </p:nvSpPr>
        <p:spPr>
          <a:xfrm>
            <a:off x="4191120" y="152280"/>
            <a:ext cx="749160" cy="666720"/>
          </a:xfrm>
          <a:custGeom>
            <a:avLst/>
            <a:gdLst>
              <a:gd name="textAreaLeft" fmla="*/ 43200 w 749160"/>
              <a:gd name="textAreaRight" fmla="*/ 705960 w 74916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24269" h="21600">
                <a:moveTo>
                  <a:pt x="0" y="0"/>
                </a:moveTo>
                <a:lnTo>
                  <a:pt x="24269" y="0"/>
                </a:lnTo>
                <a:lnTo>
                  <a:pt x="24269" y="21600"/>
                </a:lnTo>
                <a:lnTo>
                  <a:pt x="0" y="21600"/>
                </a:lnTo>
                <a:close/>
              </a:path>
              <a:path fill="lightenLess" w="24269" h="21600">
                <a:moveTo>
                  <a:pt x="0" y="0"/>
                </a:moveTo>
                <a:lnTo>
                  <a:pt x="24269" y="0"/>
                </a:lnTo>
                <a:lnTo>
                  <a:pt x="22869" y="1400"/>
                </a:lnTo>
                <a:lnTo>
                  <a:pt x="1400" y="1400"/>
                </a:lnTo>
                <a:close/>
              </a:path>
              <a:path fill="darken" w="24269" h="21600">
                <a:moveTo>
                  <a:pt x="24269" y="0"/>
                </a:moveTo>
                <a:lnTo>
                  <a:pt x="24269" y="21600"/>
                </a:lnTo>
                <a:lnTo>
                  <a:pt x="22869" y="20200"/>
                </a:lnTo>
                <a:lnTo>
                  <a:pt x="22869" y="1400"/>
                </a:lnTo>
                <a:close/>
              </a:path>
              <a:path fill="darkenLess" w="24269" h="21600">
                <a:moveTo>
                  <a:pt x="24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69" y="20200"/>
                </a:lnTo>
                <a:close/>
              </a:path>
              <a:path fill="lighten" w="24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69" h="21600">
                <a:moveTo>
                  <a:pt x="5128" y="3794"/>
                </a:moveTo>
                <a:lnTo>
                  <a:pt x="19141" y="10800"/>
                </a:lnTo>
                <a:lnTo>
                  <a:pt x="5128" y="17806"/>
                </a:lnTo>
                <a:close/>
              </a:path>
            </a:pathLst>
          </a:custGeom>
          <a:solidFill>
            <a:srgbClr val="d8aa1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9:44:07Z</dcterms:created>
  <dc:creator>Michael Burke</dc:creator>
  <dc:description/>
  <dc:language>en-US</dc:language>
  <cp:lastModifiedBy>Karen Murano</cp:lastModifiedBy>
  <dcterms:modified xsi:type="dcterms:W3CDTF">2011-08-15T19:46:58Z</dcterms:modified>
  <cp:revision>15</cp:revision>
  <dc:subject/>
  <dc:title>Slide 1</dc:title>
</cp:coreProperties>
</file>